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8D8-3DF3-496F-A1A6-0654ED40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FDA-8A6A-404B-A88C-E9B25FB9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795-79FE-4932-BE9B-45FA60A3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FC4C-4D44-46F3-BB4E-7F0FF724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842-D7C7-4B84-B650-8E2AA29A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D3F-C665-49ED-A9B1-7A38C14D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540-D2E5-4C23-B025-97598256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7A2-F96E-4783-9894-45CFEE02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5A2-E9E6-46BE-8C5B-DF31657E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677-D810-4A75-8998-FCEFE823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D98-8416-4890-A02F-B0EAA9A1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3AC-B634-4F6D-9ABC-5C53611C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A30B-537F-4657-9F29-1A7E4050B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s in 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43360" y="3090960"/>
            <a:ext cx="39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rugs in Sport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1640" cy="3629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508720" y="0"/>
            <a:ext cx="331128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to Thi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were a top class sports person and you wanted to improve performance, What aspects of your body function would you need to improve.  (1 Minu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278136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5 main areas that use of drugs could affect and which might improve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365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uscle builders- such as anabolic ster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407664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Stimulants – these make you feel more alert and energetic e.g. caffeine, co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01336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Tranquilisers/painkillers- help you to control your nerves or 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566100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iuretics – aid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control e.g. r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4941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Blood builders which increase the red blood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37782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to guess what these areas are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620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For you to do. Write your answers in your 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125360"/>
            <a:ext cx="8424720" cy="5435280"/>
          </a:xfrm>
          <a:prstGeom prst="rect">
            <a:avLst/>
          </a:prstGeom>
          <a:solidFill>
            <a:srgbClr val="d0ca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ff"/>
                </a:solidFill>
                <a:latin typeface="Arial"/>
              </a:rPr>
              <a:t>Why might an athlete use a drug which increased the number of red blood cells in his/her bl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ff"/>
                </a:solidFill>
                <a:latin typeface="Arial"/>
              </a:rPr>
              <a:t>Sportsmen and women may not be allowed to use strong pain killers.  How do you think they might give an unfair advantage?  ( Think about possible effects on the rest of the body, not just the site of an inju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ff"/>
                </a:solidFill>
                <a:latin typeface="Arial"/>
              </a:rPr>
              <a:t>Some drugs and food supplements build up your muscle ma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99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ff"/>
                </a:solidFill>
                <a:latin typeface="Arial"/>
              </a:rPr>
              <a:t>Why do you think some may be banned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99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ff"/>
                </a:solidFill>
                <a:latin typeface="Arial"/>
              </a:rPr>
              <a:t>What might be another adverse effect of using steroids to increase strengt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2 the British skier who had just won a Bronze Medal, Alan Baxter,  tested positive for Methamphetamine, a banned stimulant. He Claimed that it must have come from a nasal spray he had bought in USA to relieve his congest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think happened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4581360"/>
            <a:ext cx="784836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was stripped of his medal and banned from his sport for 2 years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5589720"/>
            <a:ext cx="79200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think this was fair?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1125360"/>
            <a:ext cx="8497800" cy="327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drugs are called ‘ recreational’ 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 you think this mea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mpression of drug use does it promo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you think this impression is appropriate? Explain your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drugs do you think would be described as ‘Recreational’ and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people would argue that legal drugs can be more of a menace in society than illegal drugs.   Why do you think they might think this?  What is your vie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58136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r you to do in your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use Page 51 of the text book and  answer Questions 1. 2a) and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3:33:24Z</dcterms:created>
  <dc:creator>sthalliwellp</dc:creator>
  <dc:description/>
  <dc:language>en-US</dc:language>
  <cp:lastModifiedBy>sthalliwellp</cp:lastModifiedBy>
  <dcterms:modified xsi:type="dcterms:W3CDTF">2006-09-15T13:26:34Z</dcterms:modified>
  <cp:revision>12</cp:revision>
  <dc:subject/>
  <dc:title>Drugs in Sport</dc:title>
</cp:coreProperties>
</file>